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A52-3D08-4A22-AC46-9BD17C21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EF5-B80D-495E-8E45-34B7925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887-A5E6-4C8B-BD55-F3EBA156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669-3F55-49DE-A1DD-94CD627D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7DB-047B-49E1-8E19-B0E48EDD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7F0B-3D9F-44EE-B9A7-1688975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AA1-3F54-4D44-8B64-B969CCE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93A1-391C-4819-8B67-866A4E7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E00D-5BA7-4014-9CE1-6F6AE12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06F2-2518-4512-919F-39F215A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C12-EF17-4813-BB8A-8F1E9C3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328-C631-4E2D-AAEA-15C2657F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B9DB-4389-4BAF-A6A5-C237DB9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74CB-BE2B-4D51-9445-03F2C42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A7B4-3DC2-4100-B642-5074D5F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FD8-0648-4C17-852C-556BA220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BE2E-73AA-4E8F-B6B1-58127FD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CFD-9DB2-4156-B36A-1748D28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3C8-235B-4A6E-89A9-3E377EE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6B2-9A45-4F09-AABD-3F952D4E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423-1915-42E3-A85D-79A7C8C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DF1-7510-418A-9ABB-FC0FFA2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205-2A2F-4E55-A6D3-D711BEF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A0E-0984-4DB0-B4CB-999BC3B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156A-DD4B-4854-86B0-1992A5BB0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4F6E-A842-407D-85C7-5922D564F1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plying for a Job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Picking Up the Application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 for two copies if possi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are taking it with you, keep your application in a folder to keep it from getting messed up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How You Are Judged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attention to deta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ability to follow direc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willingness to lear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mportant it seems to be to you for you to find a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990360"/>
            <a:ext cx="6934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Inform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sure that you bring along all the information you need to complete all the questions: addresses, phone numbers, reference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plete applications will only give the appearance of laziness and lack of interes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324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t lie on your application. Information can be checked out and if you have lied about anything, your application will end up in the trash ca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Legi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your spelling and 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black or blue p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o PRINT your information so it is easier to re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Your Appearance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ed to make YOUR appearance stand out! Dress appropriately, even for those jobs that might seem less important. Take a shower, put on some good clothes, and show them that you car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The Interview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must be honest, but positive while answering questions in an intervie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lie, but try to put information in the best possible l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going to fill out a sample job application and answer some sample interview questions from the point of view of one of the characters in “The Necklace.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9:42:20Z</dcterms:created>
  <dc:creator>MIS</dc:creator>
  <dc:description/>
  <dc:language>en-US</dc:language>
  <cp:lastModifiedBy>shmurray</cp:lastModifiedBy>
  <dcterms:modified xsi:type="dcterms:W3CDTF">2011-06-13T20:01:09Z</dcterms:modified>
  <cp:revision>4</cp:revision>
  <dc:subject/>
  <dc:title>Applying for a Job</dc:title>
</cp:coreProperties>
</file>